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600-5828-49EC-B811-55BDC280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ECC-C8F2-4B0A-B41D-FC74E5C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145-B7C8-4AFE-A4AC-389B4D15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6AF-407F-4612-A365-84FDC9E3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13C-7186-4D65-9FA1-4640736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05D-77FC-4FBC-9C6A-9CFF07A1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82A-F197-4C9A-9D90-F8512D3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F34-D299-4C50-AB57-CCF773A2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ECA-606B-4099-A0EF-80F49F14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155-1EC4-4C5F-BF3A-E3D4E81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F52-7E2E-4466-A0EA-3C39F57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DE9-2A08-430F-8FCA-9743778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D30-2D2D-4E98-ABFD-A613F6D3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rklandsd.org/?page_id=824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3124080"/>
            <a:ext cx="3124080" cy="3505320"/>
          </a:xfrm>
          <a:prstGeom prst="rect">
            <a:avLst/>
          </a:prstGeom>
          <a:solidFill>
            <a:srgbClr val="9ec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3276720"/>
          <a:ext cx="474372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76720"/>
                    <a:ext cx="474372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495680" y="228600"/>
            <a:ext cx="4267440" cy="2514600"/>
          </a:xfrm>
          <a:prstGeom prst="rect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304920"/>
          <a:ext cx="518148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4920"/>
                    <a:ext cx="5181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4920" y="1981080"/>
            <a:ext cx="1371600" cy="1447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819520"/>
            <a:ext cx="4267440" cy="380988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3054240"/>
          <a:ext cx="5048280" cy="3719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054240"/>
                    <a:ext cx="504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” Gu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914400"/>
            <a:ext cx="3200400" cy="2133720"/>
          </a:xfrm>
          <a:prstGeom prst="ellipse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990720"/>
          <a:ext cx="3733560" cy="1827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990720"/>
                    <a:ext cx="373356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-4572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2819520" cy="396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100080"/>
          <a:ext cx="4743720" cy="33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00080"/>
                    <a:ext cx="474372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943600" y="228600"/>
            <a:ext cx="2971800" cy="510552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1480" y="228600"/>
          <a:ext cx="4743720" cy="510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28600"/>
                    <a:ext cx="4743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124080" y="228600"/>
            <a:ext cx="2667240" cy="5105520"/>
          </a:xfrm>
          <a:prstGeom prst="rect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14600" y="228600"/>
          <a:ext cx="3962520" cy="350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28600"/>
                    <a:ext cx="3962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38280" y="3505320"/>
          <a:ext cx="4343400" cy="2133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4343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4267080"/>
            <a:ext cx="2819520" cy="2362320"/>
          </a:xfrm>
          <a:prstGeom prst="rect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213080"/>
            <a:ext cx="5773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. Writing the pap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you validate your sour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Take notes on the inform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rganize your thought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 findings into a paper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rently ties this all togeth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Begin with an int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graph, then the body of the pap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 final paragraph must incl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the information led t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 of your final hypo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410080"/>
            <a:ext cx="5715000" cy="1219320"/>
          </a:xfrm>
          <a:prstGeom prst="rect">
            <a:avLst/>
          </a:prstGeom>
          <a:solidFill>
            <a:srgbClr val="9ec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8640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. Citing Your Wor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cite all resources using APA format so be sure to save this information as you gather your sour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 for making Citations and a References Lis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odle Tools: On Library Main Page under “Resources for Students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200400"/>
            <a:ext cx="2819520" cy="990720"/>
          </a:xfrm>
          <a:prstGeom prst="rect">
            <a:avLst/>
          </a:prstGeom>
          <a:solidFill>
            <a:srgbClr val="daab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WA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valid and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s and on-line documents.  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lists to the right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your sources and data you f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2438280"/>
            <a:ext cx="2971800" cy="4114800"/>
          </a:xfrm>
          <a:prstGeom prst="ellipse">
            <a:avLst/>
          </a:prstGeom>
          <a:solidFill>
            <a:srgbClr val="78e1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rary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Thurs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am-7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am-4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:00am-1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28600"/>
            <a:ext cx="7162920" cy="1905120"/>
          </a:xfrm>
          <a:prstGeom prst="ellipse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286000"/>
            <a:ext cx="5333760" cy="457200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18680" y="114120"/>
            <a:ext cx="2666880" cy="2895480"/>
          </a:xfrm>
          <a:prstGeom prst="rtTriangle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054800">
            <a:off x="-27000" y="610920"/>
            <a:ext cx="28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81280" y="2286000"/>
          <a:ext cx="5181840" cy="457164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82880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s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r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E Pub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ne requi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QU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me acces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me access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905120" y="304920"/>
            <a:ext cx="72388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Be RESPONSIBLE on-l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our Acceptable Use Policy found 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rklandsd.org/?page_id=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must be capable and able to use Parkland’s systems and software relevant to their responsibilities and must practice proper etiquette, ethics, and agree to the requirements of this policy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2:50:17Z</dcterms:created>
  <dc:creator>PSD</dc:creator>
  <dc:description/>
  <dc:language>en-US</dc:language>
  <cp:lastModifiedBy>PSD</cp:lastModifiedBy>
  <dcterms:modified xsi:type="dcterms:W3CDTF">2010-03-14T00:34:28Z</dcterms:modified>
  <cp:revision>44</cp:revision>
  <dc:subject/>
  <dc:title>PowerPoint Presentation</dc:title>
</cp:coreProperties>
</file>